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1B6-7341-4605-8D42-7BFEDD89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4A1-AFAF-48F1-BE64-2D213B6E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EC0-20AB-4216-B3C1-F2EF70CC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40E-DAA2-46F1-8879-029C124E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F93-781E-421C-96E8-09F70D02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1D8-EB29-4957-9884-EEBE11C3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3A3-3D9D-4F4E-A7A4-52CD7422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0A1-1577-4A37-A5AE-78D49444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56A-FACA-423D-A437-5E83BF83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549-B4BC-42F8-A246-6FB6A97A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DC9-1AF2-4B1D-AF17-8B513A98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048-A961-4A2D-A68F-CDC3F0AF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4089-E900-4A58-9045-04948D1FA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Linear Equ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3 solutions for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ear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solutions for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easy… Pick three inputs f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I always use 1,2, and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put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alues you chose into the equation and see what you get f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s try one toge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3 solutions for 4x + y =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write in function form: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= 4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ck three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1,2 and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4(1)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4(2)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4(3)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477120" y="1600200"/>
          <a:ext cx="2200320" cy="2590920"/>
        </p:xfrm>
        <a:graphic>
          <a:graphicData uri="http://schemas.openxmlformats.org/drawingml/2006/table">
            <a:tbl>
              <a:tblPr/>
              <a:tblGrid>
                <a:gridCol w="1133280"/>
                <a:gridCol w="10670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26"/>
          <p:cNvSpPr/>
          <p:nvPr/>
        </p:nvSpPr>
        <p:spPr>
          <a:xfrm>
            <a:off x="7924680" y="2286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7808040" y="2971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7760520" y="3581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847080" y="3505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797760" y="39625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750240" y="4495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3 solutions for: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77120" y="1600200"/>
          <a:ext cx="2209680" cy="2895480"/>
        </p:xfrm>
        <a:graphic>
          <a:graphicData uri="http://schemas.openxmlformats.org/drawingml/2006/table">
            <a:tbl>
              <a:tblPr/>
              <a:tblGrid>
                <a:gridCol w="1137960"/>
                <a:gridCol w="10717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3 solutions for: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72200" y="1600200"/>
          <a:ext cx="2057400" cy="2590920"/>
        </p:xfrm>
        <a:graphic>
          <a:graphicData uri="http://schemas.openxmlformats.org/drawingml/2006/table">
            <a:tbl>
              <a:tblPr/>
              <a:tblGrid>
                <a:gridCol w="1060560"/>
                <a:gridCol w="9968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determine whether an ordered pair is a solution of a linear equation, plug in the corresponding values and see if the statement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nd equation is in function form, then you can make up three values f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solve f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ar Eq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nd B are not both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of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olution of an equation is an ordered pair that makes the statement tr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) 2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1     try            (-3,7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(-3) + 7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 rot="5400000">
            <a:off x="5045760" y="2497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841360" y="342900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t (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(1,2) a solution for x + 2y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143000" y="5715000"/>
            <a:ext cx="66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 (1,2) is a solution because 5=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40760" y="121932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t (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(7,-3) a solution f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04000" y="5715000"/>
            <a:ext cx="35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! because 1 ≠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116720" y="121932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t (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(-3,7) a solution for 2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346480" y="5511960"/>
            <a:ext cx="359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! Because 1 =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116720" y="121932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t (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(-2,8) a solution for 2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4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11360" y="5435640"/>
            <a:ext cx="37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! Because 24 ≠ 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116720" y="121932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t (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equation in function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write the equation so that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lone on one side of th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009880" y="3149640"/>
            <a:ext cx="28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) -2x + y = -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669400" y="3657600"/>
            <a:ext cx="8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+2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193280" y="3657600"/>
            <a:ext cx="8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+2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82640" y="452124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Y = 2x -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is equation in func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834640" y="266688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x + 3y = 1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6:28:29Z</dcterms:created>
  <dc:creator>JRatliff</dc:creator>
  <dc:description/>
  <dc:language>en-US</dc:language>
  <cp:lastModifiedBy>CABELL BOE</cp:lastModifiedBy>
  <dcterms:modified xsi:type="dcterms:W3CDTF">2009-08-11T17:24:28Z</dcterms:modified>
  <cp:revision>5</cp:revision>
  <dc:subject/>
  <dc:title>Graphing Linear Equations</dc:title>
</cp:coreProperties>
</file>